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33640" y="688680"/>
            <a:ext cx="4590720" cy="344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61040"/>
            <a:ext cx="5029200" cy="41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4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5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F6270-3621-42D0-9B95-4BB8D60212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33640" y="689040"/>
            <a:ext cx="4590720" cy="34434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914400" y="4361040"/>
            <a:ext cx="5029200" cy="41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d title from “incentive structure” to future basis for incentive pay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33640" y="689040"/>
            <a:ext cx="4590720" cy="34434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361040"/>
            <a:ext cx="5029200" cy="41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Added this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33640" y="689040"/>
            <a:ext cx="4590720" cy="34434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14400" y="4361040"/>
            <a:ext cx="5029200" cy="41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Changed title from “incentive structure” to VBP design consider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33640" y="689040"/>
            <a:ext cx="4590720" cy="34434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914400" y="4361040"/>
            <a:ext cx="5029200" cy="41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d title from “incentive structure” to future basis for incentive pay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d bullet #1 from “what should be the basis for receiving an incentive” to options for the basis of incentive payments – instead of what the bullet was changed to we may want to ask a different ques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17CA38-CC0A-4987-9121-420CD1AAEB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391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66680" y="4050720"/>
            <a:ext cx="7391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5400ED-D3DF-4453-A9B3-54D3BDF840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360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54240" y="1980720"/>
            <a:ext cx="360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66680" y="4050720"/>
            <a:ext cx="360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54240" y="4050720"/>
            <a:ext cx="360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03629D-1468-4A36-9A60-B60F89DBF7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23799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6160" y="1980720"/>
            <a:ext cx="23799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65280" y="1980720"/>
            <a:ext cx="23799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66680" y="4050720"/>
            <a:ext cx="23799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6160" y="4050720"/>
            <a:ext cx="23799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65280" y="4050720"/>
            <a:ext cx="23799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0595CE-04A8-4B59-B450-52A89B2AD00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66680" y="1980720"/>
            <a:ext cx="739152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A0F71A-606D-466B-AB46-FB60D0AEC8E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391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B6B663-2E33-47FD-830E-2400C213DF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360684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54240" y="1980720"/>
            <a:ext cx="360684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669797-762D-4336-A6C1-294C3C7C40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4D80B3-5B28-4D58-B8BE-A3E77F078B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1EB421-6F9E-4585-9B06-F12F1171A3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360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54240" y="1980720"/>
            <a:ext cx="360684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66680" y="4050720"/>
            <a:ext cx="360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4C2307-078B-446A-ADDF-52B4391E58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360684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54240" y="1980720"/>
            <a:ext cx="360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54240" y="4050720"/>
            <a:ext cx="360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2A0379-579F-468D-B7D5-90DF51460E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360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54240" y="1980720"/>
            <a:ext cx="360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6680" y="4050720"/>
            <a:ext cx="7391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436624-52D2-48C1-950C-A5C09E8FBD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680" y="1980720"/>
            <a:ext cx="7391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2819520" y="6248520"/>
            <a:ext cx="4038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400" spc="-1" strike="noStrike">
                <a:solidFill>
                  <a:srgbClr val="777777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777777"/>
                </a:solidFill>
                <a:latin typeface="Arial"/>
              </a:rPr>
              <a:t>Procurement Sensi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8705880" y="6496200"/>
            <a:ext cx="3808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5485C-2D5A-486B-8C10-4A6FEB9EC7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120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4000"/>
            </a:br>
            <a:br>
              <a:rPr sz="4000"/>
            </a:b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2640" y="251424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5000"/>
              </a:lnSpc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Terrence Ka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Center for Medicare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"/>
          <p:cNvSpPr/>
          <p:nvPr/>
        </p:nvSpPr>
        <p:spPr>
          <a:xfrm>
            <a:off x="1447920" y="2057400"/>
            <a:ext cx="6705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676520" y="1523880"/>
            <a:ext cx="6019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Tahoma"/>
              </a:rPr>
              <a:t>   </a:t>
            </a:r>
            <a:r>
              <a:rPr b="0" lang="en-US" sz="4400" spc="-1" strike="noStrike">
                <a:solidFill>
                  <a:srgbClr val="003399"/>
                </a:solidFill>
                <a:latin typeface="Tahoma"/>
              </a:rPr>
              <a:t>Incentive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905120" y="4648320"/>
            <a:ext cx="5257800" cy="84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Listening S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December 9, 200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Basis for Incentive Payments</a:t>
            </a: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All Medicare Physician Fee Schedule service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Measured service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Inpatient or outpatient service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Other factor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E64FD0-BE01-4C70-B9E3-27B8A9340B8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Factors Influencing Basis of Incentive  </a:t>
            </a: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61760" y="1142640"/>
            <a:ext cx="7391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Impact on increasing value to Medicare and its benefici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0720" indent="-270720"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Operational consider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0720" indent="-270720"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Equity and other iss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586800" indent="-225720"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Lower volume professionals/clinics may have less infrastru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6800" indent="-225720"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Higher volume professionals/clinics may have more opportunities to receive incentive pay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6800" indent="-225720"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Non-compliant pati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6800" indent="-225720"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Inappropriate incentives to increase volu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7DA81F-1F62-4118-8B80-17079938806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Summary of Questions</a:t>
            </a: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3160" y="761760"/>
            <a:ext cx="79246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453240" indent="-453240">
              <a:lnSpc>
                <a:spcPct val="95000"/>
              </a:lnSpc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What funding sources and payment models would be feasible and desirabl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3240" indent="-453240">
              <a:lnSpc>
                <a:spcPct val="95000"/>
              </a:lnSpc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How large does the payment incentive need to b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3240" indent="-453240">
              <a:lnSpc>
                <a:spcPct val="95000"/>
              </a:lnSpc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What type of incentive bonus payment is most effectiv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3240" indent="-453240">
              <a:lnSpc>
                <a:spcPct val="95000"/>
              </a:lnSpc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What distribution of incentive payments best achieves the PVBP Plan goal and objectives?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3240" indent="-453240">
              <a:lnSpc>
                <a:spcPct val="95000"/>
              </a:lnSpc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What should be the basis for receiving an incentive? Are there strategies that place particular types of professionals, such as rural professionals, at an advantage or disadvantage?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3240" indent="-453240">
              <a:lnSpc>
                <a:spcPct val="95000"/>
              </a:lnSpc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Should the PVBP Plan base incentive payments on payments for all Medicare Physician Fee Schedule services, payments for measured services only, or other factor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3240" indent="0">
              <a:lnSpc>
                <a:spcPct val="85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0880" indent="0">
              <a:lnSpc>
                <a:spcPct val="85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0880" indent="0"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2" marL="1100880" indent="0">
              <a:lnSpc>
                <a:spcPct val="85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0880" indent="0">
              <a:lnSpc>
                <a:spcPct val="85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738E7D-2F7D-4369-B7C1-C453C82B9F9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3399"/>
                </a:solidFill>
                <a:latin typeface="Tahoma"/>
              </a:rPr>
              <a:t>Thank You</a:t>
            </a: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447560" y="1981080"/>
            <a:ext cx="73911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Opportunity for Public Com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8547E4-90EB-42AC-8AE3-1FBC4919611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Overview of Presentation</a:t>
            </a: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66680" y="1447920"/>
            <a:ext cx="739152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Design principles and consider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Funding sources and payment mod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Type of incentive pay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Distribution of incentive pay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Incentive payment thresho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Basis for incentive pay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562D75-6235-443A-B2E6-3026BD77B49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05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Design Principles</a:t>
            </a: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685440"/>
            <a:ext cx="79250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Align incentives across providers and setting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Reward both attainment and improvement to engage professionals at all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Provide large enough incentives to encourage voluntary participation and dr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Make timely payments to maximize the effectiveness of the incen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2746C7-C9B5-4812-86B4-871334036C9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Design Considerations</a:t>
            </a: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43000" y="1676520"/>
            <a:ext cx="739152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Impact on Medicare program and beneficiary c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Budget im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Operational feasibilit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Distributional consequ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1A988B-94CF-450E-B013-8F74AA2F3EC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52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Funding Sources &amp; Payment Models</a:t>
            </a: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39152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Within Physician Fee Schedu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Beyond Physician Fee Schedu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C1581D-049E-4052-8CEB-612A8B54DBE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Type of Incentive Payment</a:t>
            </a: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73915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Add-on to base pay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Similar to hospital pay-for-reporting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Periodic incentive pay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Similar to PQRI program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Bonus p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Part of payment is withheld and placed in incentive payment po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48798B-097E-4B52-B267-405B09AC578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56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Distribution of Incentive Payments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1760" y="1523520"/>
            <a:ext cx="7391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What distribution of incentives is best t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Achieve the goals of physician VBP Plan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Provide consistency with the level of accountability that can be measured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84063F-61E9-4641-A3E1-5E8EA219945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Distribution of Incentive Payments</a:t>
            </a: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83055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Larger incentives to smaller number of high performing professio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Alternatively, smaller incentives to larger number of professio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Financial risk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5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B0B806-449C-4B0D-9709-0FA68E1D1DF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Incentive Payment Thresholds</a:t>
            </a: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523520"/>
            <a:ext cx="7391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Options for incentive payment thresho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Absolute performance threshold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Relative thresholds or percentile ranki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Minimum performance thresho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Improvement in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A combination of approa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Advantages/disadvantages by type of professional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92EA1D-14B7-424C-AAA3-AF35C252679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9T15:08:35Z</dcterms:created>
  <dc:creator>CMS</dc:creator>
  <dc:description/>
  <dc:language>en-US</dc:language>
  <cp:lastModifiedBy>CMS</cp:lastModifiedBy>
  <dcterms:modified xsi:type="dcterms:W3CDTF">2008-12-08T15:40:06Z</dcterms:modified>
  <cp:revision>9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94436370</vt:r8>
  </property>
  <property fmtid="{D5CDD505-2E9C-101B-9397-08002B2CF9AE}" pid="3" name="_AuthorEmail">
    <vt:lpwstr>Julianne.Howell@cms.hhs.gov</vt:lpwstr>
  </property>
  <property fmtid="{D5CDD505-2E9C-101B-9397-08002B2CF9AE}" pid="4" name="_AuthorEmailDisplayName">
    <vt:lpwstr>Howell, Julianne R. (CMS/CTR)</vt:lpwstr>
  </property>
  <property fmtid="{D5CDD505-2E9C-101B-9397-08002B2CF9AE}" pid="5" name="_EmailSubject">
    <vt:lpwstr>PVBP Slides renamed</vt:lpwstr>
  </property>
  <property fmtid="{D5CDD505-2E9C-101B-9397-08002B2CF9AE}" pid="6" name="_NewReviewCycle">
    <vt:lpwstr/>
  </property>
  <property fmtid="{D5CDD505-2E9C-101B-9397-08002B2CF9AE}" pid="7" name="_PreviousAdHocReviewCycleID">
    <vt:r8>1181294680</vt:r8>
  </property>
</Properties>
</file>